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F33D-DEFA-424F-B812-AF1D62F568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1FAE-40F6-4E77-A93C-0541E74668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574C-D6C0-4ECA-BACC-6005152709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AE21-62F8-48AB-966B-E57B7ADDB3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66EC-8190-41A5-A7D4-E4028EF1FC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60DA-FAA7-4FAA-A9E1-090A0BB656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50A0-5F79-46DA-890E-B71117134C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77AD-659C-4170-9B1A-6F707DD070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B028-DB1E-40DE-A3FB-459DE0A060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30B1-A65A-4E83-AFAA-DAC9809231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2B19-3E57-44A2-965C-A8BE86EBA8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B73E-FA61-4788-B1E6-B282883244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4B8A-8E3E-483D-9A55-CFA9980121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7AA5-2C05-43FB-9EF6-7FDD4B425A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37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0E1E-F2D2-41C1-89EA-A7CFE3BAE4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BFA9-4E75-42E5-BF0B-1519215DB0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6098-AD25-43AC-AD47-4E884D41F8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59CA-3A16-4B45-BF91-CC10DCDE5C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984E-3C01-433C-9991-43333F0046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CED6-B0E6-4D54-B53A-6D31F28E1B1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212A-16B6-47EA-A436-0208703B41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AD3B-5C27-4183-B32D-85AE4968B6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4269-8F8C-4FC6-85F7-1BED2AA23F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9" name="Rectangle 63"/>
          <p:cNvSpPr/>
          <p:nvPr/>
        </p:nvSpPr>
        <p:spPr>
          <a:xfrm>
            <a:off x="660240" y="49528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BC94-3A00-416F-801D-786319655A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BA71-F020-4665-87B5-A79B4DAD91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802C-A2F8-41A5-9F6E-17431A7274A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C63B-CA70-4CF6-94F3-CF339CAF79E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BB50-A541-4BE3-8F95-5C189B1B0A4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C849-70BA-4BEB-B734-34392027ED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AC13-10A1-489B-98E8-94678D2F66C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9903-BBAD-4FB5-8D46-D603F6BB06E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E32A-B7AC-4846-9A2C-1142D40A0E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94D1-0AFC-4F2A-A225-494CCEA280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D38A-1616-4AE4-B2E6-DCF4B0E5BC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45B7-4247-4187-BD7F-B4116B2DA1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7A81-0C76-4B7F-861A-89B04A3EB7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6381-7DB4-419F-BBD7-92D4C62B1D5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6F84-A6FF-4BA3-A797-DD65E6D435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8B72-31C8-4CCB-B18A-1D725A329F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7C64-A551-4EA8-AEFF-CDEFC375F9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91F6-9F14-4747-B610-708CD71527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1931-37CF-404D-BBB4-BA4C1035DC2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1465-5181-4EA3-A519-2F375D49B1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6F5E-3017-4A00-8B4E-B24238B111D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F0E1-5BB0-4CA8-B781-57E718FF25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7B81-670E-4E9B-A046-8288687C34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70F7-FBAE-45D1-80C4-041378FAECB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17BD-8635-4437-BA00-E8ADDE4C38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EF6B-4D3E-4327-B076-1EEA0FC1B5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5E19-6EE3-4721-9D72-05B00AA6B8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6AF3-AB1B-40BE-B3A0-13940AE5DC7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43B5-C04C-45EC-8712-D1C4EC8D79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C302-858C-4DBE-A64F-4C6BF233BE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8DAC-1B94-44BD-A70A-6DDDD4B2E8A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596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8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9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00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01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02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3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4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05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6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7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08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9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10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2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3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4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5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6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7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18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19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0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1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3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4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25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6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27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8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9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128B-F347-48A6-9B2B-0A84A07DDE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34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36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37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8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39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41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43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47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EB7F-6B40-4701-B546-657777187C5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D75B-D7AC-4C84-94A4-BAB8F79534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62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3965-B1C6-405D-9EA4-B596AC145B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7D35-B6B6-4BE8-8578-3A5F6494BFF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FD6B-76A8-41B3-8EA3-EED6220D67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A83B-C428-4F60-BF6A-6220AEBB77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8-11-05T16:00:19Z</dcterms:modified>
  <cp:revision>1</cp:revision>
  <dc:subject/>
  <dc:title>Folie 1</dc:title>
</cp:coreProperties>
</file>